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.jpeg" ContentType="image/jpeg"/>
  <Override PartName="/ppt/media/image10.png" ContentType="image/png"/>
  <Override PartName="/ppt/media/chomp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D757-A370-420D-91F4-306C9F1F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E237-3C0A-471B-B734-E1FCF6A3D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l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D7DA-FD15-49C3-A857-2C14BFA278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pa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sha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ld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71F5-458A-4A9F-8FC4-2607816023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wa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855F-A5CB-49C5-80E8-C64C5843D4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spe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0151-A0C0-460B-82D1-94C5FA3704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F223-A8FB-4CB4-9EAB-ADB6BBAFB4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lie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r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8195-F004-4CC1-B8B1-C1FC294B0C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B75A-B4BA-4376-B23B-1DF0B247D4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49B7-B16A-4108-B6E0-E348E45CF8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B3D7-9311-409C-A76B-105927D1AA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39BB-BF24-401B-8662-5622AA09D8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ED3-D21F-4948-825F-3C466BC1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712-6BF5-49EE-B3BC-4E5F2C13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B9888-3C40-436E-8A58-1079C14A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ABAC5-2377-44BA-9B3E-7BC0725F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F73D9-B950-41C0-BC28-954F384B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51B64-18D1-4E3F-BEED-1238F473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62D3-9315-40DF-B299-4D71D8A6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86BC8-32B7-4B2C-B8F9-0244BC42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BD95-0739-4BF2-8D81-E8786E3B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A89C0-A6D9-4539-A7B0-07343AEE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C5685-7497-455F-96ED-96BBE2A8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4010B-852C-49C7-AEBA-773353C5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2B3-6471-4E14-8173-325D695A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337CA-7AC7-411D-9A3C-A65F091E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A25CA-FC6C-4462-91C2-3CB46D5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2E06D-AF4E-4A2A-8692-2D417928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E4852-4767-4D95-89A4-9E6012BC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C8F71-B49F-4404-AB4D-31AF76E2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D53FD-4C00-4BDB-A731-CCEB1333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154F-C4BE-472C-A6CF-BB9057C4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4CADA-C517-4DCF-9F9F-F026B9FD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BB1D4-5882-4C1A-AF01-A6BCAE9F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4ACFC-D078-46FF-B7D2-4FD74CA2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0F7-9764-40B8-B45E-C32A4FC6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B2BF1-9142-4B59-90CC-FC5F47C4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28355-F9F3-462F-A6D8-B437A55C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4E8CB-745F-44D5-A20D-EE5CEB1C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C2EF6-05DF-4BDB-9220-925841E1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386FE-0F0C-4BF1-B2C6-BF1AC5BB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02065-C453-41E9-BA6F-5C4EFB0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D4497-3FE3-4EE5-BBF2-E6022CDF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B65FE-2664-4537-B27A-50A44C3E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916AC-5472-4FE8-B017-02A28F4E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AD12E-DD8C-4C26-94FB-1D6026D7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A41B5-7BD9-4A91-8E06-3C2896DD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2A8C-8DFD-4505-8598-84DF61FD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BD321-6916-42F5-BEE7-8DFA9D3C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842A1-7B8D-4D5F-A2D3-D2857E31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05B6F-DF0D-4C78-A242-8A69AE66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945FF-C83B-42C7-9D8D-B32A37A5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E5308-455E-4A71-979B-4D91F10C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73C82-1311-4E6E-B13A-97BB03AD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6EB05-F1F8-43C9-AFD1-E5491103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67080-A67C-4DA2-9FC1-6647FB84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1260F-79BF-483E-91BE-1EF5B933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62C00-0FD5-4996-9CF6-B9A56C70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DF25E-6447-45FF-82B7-7D530EC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A5805-8157-4633-BC85-34AEE11F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5F595-147B-4CC5-AD15-EBBA22EB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C222D-4493-4B7D-85EF-EF44B782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B3378-D8E4-4C45-9BDC-C32824D3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750BF-AAB9-4C8C-9AAE-B983E8CF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23182-5240-4149-894A-0E40A266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8FACE-30E6-4F59-A502-DD16ADDB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8F73E-4026-4207-AAAC-A4A4453F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4304E-8B5F-4E18-9224-5825C7D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61F89-C0D6-44C6-8346-054F3C54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3677F-C5B1-443B-8BE4-1D9D658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F6670-8CE3-4E71-85F1-5201903C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ADA1B-4821-4C71-9432-A49C6628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51526-34D8-4BCB-BCC3-37953BDB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F9BC2-0A47-45E4-8E10-F706999C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040B1-AA60-4DAD-A813-3BD07F38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2CB11-BE36-4FBE-9192-800EDBFC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1461C-C5DB-4C9F-AFB4-938AFF7F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27D67-2851-493D-8658-677BC9F8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3AA63-A48D-4ADC-8DDE-81787C0E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246B-680B-4BEF-86C1-20A89D4D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F7F4E-60DF-4F4A-80C0-E40B9AD5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FBCE1-74C2-4875-B0F4-0D2F8D55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D7A6C-5A3A-4725-AE75-FF83995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6B08A-1327-427A-BA98-372B70EF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57BAB-9E05-4098-8CEC-DE6D0B3E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F7B7C-B0F8-4D80-B5DC-AEDE0E29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DF96D-82D7-478F-B2CA-4E215B50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032FB-093D-4592-AB83-3707661C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15FF7-4FFB-4051-A47F-F260F021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CE8E7-9352-4AC3-8221-CD3734D8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DF3ED-6478-44BA-87BD-92F53E73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124BF-06E2-45C2-A743-344BA208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76C7C-0DA3-4CEF-BFF5-8A099A8B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06467-E7B4-4114-8BEB-CBD005EF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14356-87DC-4107-8E76-C28BCA79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D3952-0E8D-4C57-9EE5-08C33277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CDAED-7397-4CFA-BC99-78378D2B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705CC-8CB1-41BE-8BB2-DD471CF7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8DD5A-92F0-4CF3-8E64-BA074D67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3CE35-A7A0-44B1-A020-86697DBD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C97F5-E214-41B4-BB06-CFEB8F66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F3A66-3AA4-4B5C-9C1B-5338F92E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AC063-482C-4815-887D-86C439B9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151EE-7066-44E6-B5E8-B8CE2F03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1FB78-AE9D-4487-AE43-C2EDD38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9DB16-8614-4485-A445-3FD29DC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42EE6-52F6-4167-847A-EF87A7FC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633B2-8FAF-4D82-B814-CE0D3ED1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55EA7-E5B1-4E24-9063-2DEED120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1FED3-F106-439E-8DFC-823D78B8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20A44-46FA-4C5E-AE72-51DC54D6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AFC44-ED4E-40CB-947E-03F717F7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48F18-C9F1-4BBB-A036-348CE861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6B0FD-7B78-45C1-9CC6-09C05DE6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FA0C7-0A46-4FB7-8489-CA451508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1E16F-F7AF-4875-9BEE-0092BBAE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201-BC5B-4BC6-9375-D5759A48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8CF87-A726-49DE-96C6-B63FF88D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D944A-CF76-434A-B448-4C3FA24A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42AB5-C55B-4E9D-8F5B-E17BDE1B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2514A-F074-4C64-8CD6-7340B96F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4BDB7-B9F7-4811-A2E5-79A7C1A1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61083-F5E7-44DC-A5A8-8ABEA861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9E6E5-02C3-4D3E-880B-0C9A8156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527DF-9D5B-4262-846C-A71E5E31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03F52-4672-40D8-9619-AA187BE9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C4787-9100-4CB3-8D17-5A059DE1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B0D9C-4777-4C0B-84AC-9E8C813F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1DB8E-B35E-4D5E-90BE-E94831EA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BF0F0A-085D-4670-8424-287D855D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6CC20-9497-4E11-AB49-1C038B6F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611E8-1AC1-4436-8720-EE66FBC3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8FEAF-4327-4D9F-8CE8-D22A8002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24B41-1D4E-485E-B833-F6078727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629FB-4F01-4559-A912-EAAE8EB9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0A2D4E-AA2C-4DEC-A054-B949BEF3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80C32-5ACD-474A-B0B1-3B50C253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8E02B7-D28B-4032-8A6A-39B2F01D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7C278-E273-4A5B-AB41-B841B57B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8BDE7-02B4-424E-8642-4E3E2E9E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1A8C6-4B53-4BAE-B392-548E9A8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CC3FE2-9D06-460B-93B0-8708A74E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7B665-0633-4FCF-8DA0-27E07A11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EC56D-6304-4F6E-8836-7C71068E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A7383-3EDA-400D-8F59-6559531A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B1E41E-21E6-476C-93E5-4154BEC2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5CA27-5020-4AA5-992B-95992C7A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AC5A5-C9E1-4C09-BE22-8C3A23EE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2C4DD-A43E-4332-BD1F-609B2F23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E9DDF-2036-4A74-AD87-872354E4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FA60D-25B6-4A6C-AB93-AE2B8FEF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545FA3-2B67-427D-A941-B07CCF6C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E00B8-77B8-4071-827E-EA343F93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564A2-32D8-4800-9A86-D09F052E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7AE01-20E6-4921-85B1-355E9A39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A4C36-7AEF-43B4-8748-D7D748B4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BAA13-2DCD-400A-979A-C2BC7913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00A2F-707A-438A-BF0E-6199692E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8A4475-52CD-4396-ACE2-5FFB08EF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9A97D-0390-46BE-B50B-46620346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7B8AE-2BE3-4322-8DE5-C481FB95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194E3-27F0-4E43-A8A4-12024070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6B29B-76FD-4C74-B22C-D6D95F7F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53524-EB04-4E21-BA91-1EAD2ECB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ECACAA-2C37-4B73-B1F0-4B6EC9EA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66B508-F815-46F9-AD42-1FBCDBFF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71DFFE-2A73-4E79-8E76-D06398E2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1B8B98-0050-4B12-B606-52AC9691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B086E-5FE6-415E-851C-6C06EF89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5D271-6843-4011-B4C4-4D2AC981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DEBA53-9933-400B-B7FC-5C6451A6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26E37-44FB-4B3D-9941-ABD75203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8A0537-F7A1-4534-B469-3C0EFAA2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C04AD-545E-4E50-A393-2D4DBF45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CC6E1-BB05-48CF-BB29-3EF82E48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BCD14-D268-4FAD-A894-24085E31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0AAE0-AEAE-4B0D-BD1E-E9DBE03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95CC65-C6F5-4D24-B9C6-1022FA9B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EFC2B-DFC5-4D67-9C8C-EAF7598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C65AA3-595A-4654-BD77-5C831CE5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878B76-337A-497D-BE56-960338D0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1D8809-B89C-47E8-B7A0-F6878784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AA60F-F434-4EF8-A074-8BE7B361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743A73-3D1B-47AE-B64D-999C219C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3A28B1-F8A6-4D50-B8E6-EE882FCD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3DEF63-6D16-4A94-A3AC-BB0281E3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225FCD-771F-495D-AE6A-8C4A73C3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3EB3FF-F444-46C9-8F39-EBB928C5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FF4AF-80AA-486B-B952-F8F910E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17E7F8-9D88-4B7F-9471-6244BD12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28287-354A-4D5D-84CF-FEBCE2F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29D520-7A59-4A4F-B5F8-390DD832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AD583D-E4CB-4521-8701-72492EE0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B8F296-A39B-4BD9-A8C8-8C1BA1E1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9B250-43C9-4340-AE4F-742E0869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A40E52-6487-4B1D-AA58-90E28B2B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C7516-5961-4D93-9673-F5FD559D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7765CF-AA8B-449B-955B-CCC11801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F90C92-2D23-4319-B204-57B97F11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33B2BC-B620-48AF-9230-416FFDD6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C6F64A-E096-4682-B37C-9D3D082A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A47C0E-4AB7-4BA6-85DC-D735D91E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15A72-0ED0-4C07-9506-411E1F4B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95F1B8-1C4D-4A8A-912D-1537EDAA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E4396-1679-4424-BB04-8334CDA8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CE540A-9A8C-4624-8819-EA5FBFE3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5BA40D-5E3F-4478-B769-BDC74C1E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4B0138-96B4-41C4-AAD8-E6A78A50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2B488A-B163-45EF-9528-09E35B25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F4DED8-6AFB-4402-BF92-DBDBAAC4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3CA59B-6656-4CB2-B985-3EC1957E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7FFA53-9E40-4BBB-AC01-C7B4DF1F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0912F7-D056-46F7-BBFB-E5246C4F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EA6E0B-FA51-45E6-96C8-0F5F3E1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7A779D-8E0F-4F1A-A312-6EAE3B14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1C1FFB-DB33-4132-95B0-866724FC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82B89D-EBA1-47A3-8F04-E9DAC350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1D9-0D25-407B-98AD-70769265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8D8060-24C2-4641-82CB-A42575D2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2D1BA4-A7DA-48FE-A3D5-5723CAD1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A54F7B-C0CB-4020-ADAE-D7128764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660422-583C-4CA2-ADF2-9113A71D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4ED4EA-8553-4EE7-8285-ABAD0083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FC2441-2A8C-438E-8833-A2182FE7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788585-A821-45C3-B239-3AF4BFC1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B37940-ED91-4ED0-AC19-64E093BA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E7117D-B6DF-4412-93FE-BE2A2C07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BEF2C9-9489-4F3F-AB03-9D12AB61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123ACA-E122-49B7-B10A-7440AAA2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696303-F668-4569-847A-8ECB9A3F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D8670D-7670-4F58-9CF5-D5C94E27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DFD6C5-DCB3-4D58-938B-3FF547C4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3D76E6-70A1-47F3-AE1F-A523D507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0594BF-FE9A-4FC7-A8AD-723BE5A1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D8146E-0723-40FB-8615-29C1B8B1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815694-1E9C-4B6D-B5BC-9DFD7C82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DE9520-159E-49EB-8771-692F83D3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BA02CB-225D-46E0-A2E7-7F312B4A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7415F7-EEAE-440E-8B1A-DA090DB1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3D3147-0D07-4634-B8A0-E5EDA7B4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45D7DD-7CE4-4D46-A368-16CCFA3F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4777BD-5E5E-437C-8E30-83532197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567E4F-E01A-401A-B123-58F31661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43B-B952-403D-B7DF-8B118702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A7F3-3D03-4147-A9D0-5A828711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B4F-13AF-4DFF-9E98-917057E6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18D2-3E6F-4DD4-9230-0FFD9FF1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6237-95ED-4A51-8AEF-04232BD5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F623-2F3D-4CD6-9CBF-AA95D930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0493-896A-4F22-B45A-20C3C432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B908-7329-4F3A-A1FA-86E0E5FB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083B-5208-4AF6-B5A8-F41464F9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3E01-A92F-4D39-AB36-A1583164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E111-4AFE-4C4A-B4A2-5C6B280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97A1-25D4-4BE5-AF66-119C117F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459F-88FA-43FC-9B03-1B4456BE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C13-A018-4744-A02E-678E9347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F709-E64E-47B7-AB52-AF74A890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62E9C-FE9A-42D0-B7EF-A2D65F4D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A1F9-9756-4D0E-BAE0-5130EDD3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6E19-6E28-442F-BDC8-F8AD9EE0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413B-B1D4-453E-BCF2-C2810DC4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DDD1-4358-4410-9B1B-CDC2902E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78AE-0638-44A8-8651-086A3716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1679-E296-4756-9E23-E9E00152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38F6-E4F3-4912-82AA-89CE9B4D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19420-2FDB-4C4D-A01B-AA15641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74E-C04B-47F1-AD51-C381903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3D3A-CCD3-49D3-A489-22160952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E6493-28DA-4BD2-AC64-96874700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12E8-95C9-4F76-8D73-B5B774AA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959EC-DA5D-4EA2-BEC5-98158B2E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AEAA3-8127-426A-9788-7C76CFBB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017D8-EE45-49BA-8247-B850039E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9D5B-7F65-4664-9375-1684ECDD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A4A8F-7E25-4CF8-B5BB-234139DD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0EA4-64C0-4C31-A052-4DB27665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F6F15-E73A-451F-A8EA-05E5F91F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9EF-2A47-471E-A850-5B5DA6D9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44536-5A0C-4CC8-9305-E62EA8D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98DC-ED7A-453B-89C6-C15E5AA5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75C7E-ED06-440A-A0CC-F0CA6425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0451D-9150-48B8-8D53-D1A9F99A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1FA74-E732-4799-A7FF-11D491BE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B21D0-468A-4780-816D-8D2FDB9C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72B89-5472-424A-A436-004DBE6A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7D8A1-141E-4010-A40B-C8DF2CC0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D488D-0A18-45D4-9AD7-AEE4A11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02A86-A969-4921-8683-82A15999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EF0-C1B4-4B01-9B12-19A32789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A4106-9BF2-4449-BBF6-C9802D4C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26803-FDBA-4DC2-A730-851E0D08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916B-01F7-4ADA-8A59-704EB3F0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9E24-6427-4BA1-BD5A-26C6C009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A9E91-4ECF-4B53-ABFD-0403678E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7A985-C769-45C5-BA37-D4A0C5CC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B3392-E641-49B2-96F8-76BD8C8D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5CA93-4A63-456E-B93B-5794546A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4D907-CCA8-4E7C-8637-D363FB03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E095F-8BC5-4ABA-8B74-B87B705E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FB38-1AB7-469C-83C7-2001973D44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01FC-C910-4C00-A545-A08A86F1C6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10CC-B7F8-405E-B766-81A6016E68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5962-2403-488E-AE28-19D37DDB27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316B-3957-4388-840F-5D1DF75537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C625-D26B-4695-B99D-E4B4221112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9BAB-DCA1-49B4-BC5F-8463005782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BEE8-BF3F-402C-A469-660837AAC1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E44B-D244-4CEF-8BCF-4CFB2056C5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2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2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3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3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4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4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BD0F-EDE7-49F9-A240-8D1187E3C8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9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9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0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0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1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1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E601-0769-48BC-A3D3-5626B4A009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4DC7-91DF-400A-9C9C-71D559AEBE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3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3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4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4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5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6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0DA0-A28C-4C90-A35B-A452469038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0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0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1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1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2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782B-5216-4C89-8AC2-44039CD0C9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7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8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8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9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9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0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334B-8C28-46FD-9BDA-C8421A8BA1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4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5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5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6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6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7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6EEF-C1F6-42C5-BB7D-D107639BD1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1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2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3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4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9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EF4E-B1E1-456F-993A-732FB88A55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9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9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9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0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0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1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0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16CE-1617-4147-B5C7-5972ADFF0C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6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6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7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7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8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8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1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8ADA-4F8A-4BD0-9E18-5C5F2B97A2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954F-571F-4A1D-9C96-43D790571A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398F-12F2-4097-9329-565772ED4D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0AB5-0FE4-467C-9948-4A5FA7109A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68AE-F8FE-4D1C-8815-F60258103D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319B-D946-4159-A9F0-21EE8BFD2C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54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4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6761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uld/woul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= past tense of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an/will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5" name="Rectangle 4"/>
          <p:cNvSpPr/>
          <p:nvPr/>
        </p:nvSpPr>
        <p:spPr>
          <a:xfrm>
            <a:off x="533520" y="2209680"/>
            <a:ext cx="807696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thought he will have enough energy for his workout, but skipping breakfast meant that he cannot complete his trai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6" name="Picture 13" descr="tired.jpg"/>
          <p:cNvPicPr/>
          <p:nvPr/>
        </p:nvPicPr>
        <p:blipFill>
          <a:blip r:embed="rId1"/>
          <a:stretch/>
        </p:blipFill>
        <p:spPr>
          <a:xfrm>
            <a:off x="4419720" y="3789360"/>
            <a:ext cx="3530520" cy="3068640"/>
          </a:xfrm>
          <a:prstGeom prst="rect">
            <a:avLst/>
          </a:prstGeom>
          <a:ln w="0">
            <a:noFill/>
          </a:ln>
        </p:spPr>
      </p:pic>
      <p:sp>
        <p:nvSpPr>
          <p:cNvPr id="1577" name="Rounded Rectangular Callout 9"/>
          <p:cNvSpPr/>
          <p:nvPr/>
        </p:nvSpPr>
        <p:spPr>
          <a:xfrm>
            <a:off x="1905120" y="4800600"/>
            <a:ext cx="2209680" cy="1828800"/>
          </a:xfrm>
          <a:prstGeom prst="wedgeRoundRectCallout">
            <a:avLst>
              <a:gd name="adj1" fmla="val 142685"/>
              <a:gd name="adj2" fmla="val -771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have had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8" name="Rectangle 4" descr=""/>
          <p:cNvPicPr/>
          <p:nvPr/>
        </p:nvPicPr>
        <p:blipFill>
          <a:blip r:embed="rId2"/>
          <a:stretch/>
        </p:blipFill>
        <p:spPr>
          <a:xfrm>
            <a:off x="536400" y="2212920"/>
            <a:ext cx="8077320" cy="1596960"/>
          </a:xfrm>
          <a:prstGeom prst="rect">
            <a:avLst/>
          </a:prstGeom>
          <a:ln w="0">
            <a:noFill/>
          </a:ln>
        </p:spPr>
      </p:pic>
      <p:sp>
        <p:nvSpPr>
          <p:cNvPr id="1579" name="Rectangle 4"/>
          <p:cNvSpPr/>
          <p:nvPr/>
        </p:nvSpPr>
        <p:spPr>
          <a:xfrm>
            <a:off x="457200" y="2209680"/>
            <a:ext cx="82296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thought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oul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enough energy for his workout, but skipping breakfast meant that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l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complete his trai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1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2" name="Picture 7" descr="attitude.jpg"/>
          <p:cNvPicPr/>
          <p:nvPr/>
        </p:nvPicPr>
        <p:blipFill>
          <a:blip r:embed="rId1"/>
          <a:stretch/>
        </p:blipFill>
        <p:spPr>
          <a:xfrm>
            <a:off x="6657840" y="3276720"/>
            <a:ext cx="1343160" cy="3581280"/>
          </a:xfrm>
          <a:prstGeom prst="rect">
            <a:avLst/>
          </a:prstGeom>
          <a:ln w="0">
            <a:noFill/>
          </a:ln>
        </p:spPr>
      </p:pic>
      <p:sp>
        <p:nvSpPr>
          <p:cNvPr id="1583" name="Rounded Rectangular Callout 6"/>
          <p:cNvSpPr/>
          <p:nvPr/>
        </p:nvSpPr>
        <p:spPr>
          <a:xfrm>
            <a:off x="2514600" y="4495680"/>
            <a:ext cx="2666880" cy="2057400"/>
          </a:xfrm>
          <a:prstGeom prst="wedgeRoundRectCallout">
            <a:avLst>
              <a:gd name="adj1" fmla="val 125921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think you’re tough? Show m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r tense 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5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had frozen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lost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was knocking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froz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knoc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froz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nock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9" name="TextBox 3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had been eating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TextBox 5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been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TextBox 6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been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3" name="TextBox 3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pawed at his hair and shook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cannot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TextBox 7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w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his hai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TextBox 8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w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his hai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uld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7" name="TextBox 3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ndpa planted a backyard garden, hoping that it was helping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TextBox 5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ndpa planted a backyard garden, hoping that i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hel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TextBox 6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ndpa planted a backyard garden, hoping that i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hel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1" name="TextBox 3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was a freshman, she want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couldn’t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TextBox 9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freshman,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TextBox 10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freshman,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5" name="TextBox 3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is sleeping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TextBox 5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 slee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TextBox 6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 slee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2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9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spent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 thinking that such arrangements are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p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 thin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uch arrangement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p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in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uch arrangement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1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3" name="TextBox 3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had carri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Box 5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carr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TextBox 6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carr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0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Picture 9" descr="muscleman03.jpg"/>
          <p:cNvPicPr/>
          <p:nvPr/>
        </p:nvPicPr>
        <p:blipFill>
          <a:blip r:embed="rId1"/>
          <a:stretch/>
        </p:blipFill>
        <p:spPr>
          <a:xfrm>
            <a:off x="3048120" y="1981080"/>
            <a:ext cx="3047760" cy="478656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ense Shif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3" name="Rounded Rectangular Callout 7"/>
          <p:cNvSpPr/>
          <p:nvPr/>
        </p:nvSpPr>
        <p:spPr>
          <a:xfrm>
            <a:off x="304920" y="2362320"/>
            <a:ext cx="2666880" cy="1981080"/>
          </a:xfrm>
          <a:prstGeom prst="wedgeRoundRectCallout">
            <a:avLst>
              <a:gd name="adj1" fmla="val 104787"/>
              <a:gd name="adj2" fmla="val -3038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use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es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nse to mainta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nsisten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Rounded Rectangular Callout 8"/>
          <p:cNvSpPr/>
          <p:nvPr/>
        </p:nvSpPr>
        <p:spPr>
          <a:xfrm>
            <a:off x="6477120" y="2590920"/>
            <a:ext cx="2438280" cy="1523880"/>
          </a:xfrm>
          <a:prstGeom prst="wedgeRoundRectCallout">
            <a:avLst>
              <a:gd name="adj1" fmla="val -113560"/>
              <a:gd name="adj2" fmla="val -3761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need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nse inste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7" name="TextBox 3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believed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rode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had hit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TextBox 7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elie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h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TextBox 8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elie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1" name="TextBox 3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would have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TextBox 5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uld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TextBox 6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uld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4" descr="attitude.jpg"/>
          <p:cNvPicPr/>
          <p:nvPr/>
        </p:nvPicPr>
        <p:blipFill>
          <a:blip r:embed="rId1"/>
          <a:stretch/>
        </p:blipFill>
        <p:spPr>
          <a:xfrm>
            <a:off x="6172200" y="1295280"/>
            <a:ext cx="1828800" cy="4876920"/>
          </a:xfrm>
          <a:prstGeom prst="rect">
            <a:avLst/>
          </a:prstGeom>
          <a:ln w="0">
            <a:noFill/>
          </a:ln>
        </p:spPr>
      </p:pic>
      <p:sp>
        <p:nvSpPr>
          <p:cNvPr id="1546" name="Rounded Rectangular Callout 2"/>
          <p:cNvSpPr/>
          <p:nvPr/>
        </p:nvSpPr>
        <p:spPr>
          <a:xfrm>
            <a:off x="1295280" y="2438280"/>
            <a:ext cx="3353040" cy="2819520"/>
          </a:xfrm>
          <a:prstGeom prst="wedgeRoundRectCallout">
            <a:avLst>
              <a:gd name="adj1" fmla="val 122342"/>
              <a:gd name="adj2" fmla="val -5449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recogniz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ppropriate verb ten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 giv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ime fr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tense shif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9" name="TextBox 3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was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is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ed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Box 10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Box 11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2" name="Picture 17" descr="stare.jpg"/>
          <p:cNvPicPr/>
          <p:nvPr/>
        </p:nvPicPr>
        <p:blipFill>
          <a:blip r:embed="rId1"/>
          <a:srcRect l="0" t="0" r="6708" b="13331"/>
          <a:stretch/>
        </p:blipFill>
        <p:spPr>
          <a:xfrm>
            <a:off x="7391520" y="4178160"/>
            <a:ext cx="1752480" cy="2679840"/>
          </a:xfrm>
          <a:prstGeom prst="rect">
            <a:avLst/>
          </a:prstGeom>
          <a:ln w="0">
            <a:noFill/>
          </a:ln>
        </p:spPr>
      </p:pic>
      <p:sp>
        <p:nvSpPr>
          <p:cNvPr id="1553" name="Rounded Rectangular Callout 18"/>
          <p:cNvSpPr/>
          <p:nvPr/>
        </p:nvSpPr>
        <p:spPr>
          <a:xfrm>
            <a:off x="4191120" y="4114800"/>
            <a:ext cx="2209680" cy="1676520"/>
          </a:xfrm>
          <a:prstGeom prst="wedgeRoundRectCallout">
            <a:avLst>
              <a:gd name="adj1" fmla="val 116500"/>
              <a:gd name="adj2" fmla="val 277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an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wrong tens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Rounded Rectangular Callout 19"/>
          <p:cNvSpPr/>
          <p:nvPr/>
        </p:nvSpPr>
        <p:spPr>
          <a:xfrm>
            <a:off x="3962520" y="4114800"/>
            <a:ext cx="2438280" cy="1676520"/>
          </a:xfrm>
          <a:prstGeom prst="wedgeRoundRectCallout">
            <a:avLst>
              <a:gd name="adj1" fmla="val 112750"/>
              <a:gd name="adj2" fmla="val 277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Wanted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uld b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present te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 correction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6304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resent/present perfec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nse to indicate current/regular action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762120" y="3809880"/>
            <a:ext cx="761976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ffrey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goe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the gym six days a week where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has gaine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 only muscle but also discipl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7" name="Rectangle 3"/>
          <p:cNvSpPr/>
          <p:nvPr/>
        </p:nvSpPr>
        <p:spPr>
          <a:xfrm>
            <a:off x="609480" y="2057400"/>
            <a:ext cx="7925040" cy="17524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resent tens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ver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= singular;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ver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= plu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resent perfect tens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ha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or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hav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past partici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8" name="Picture 5" descr="muscleman.jpg"/>
          <p:cNvPicPr/>
          <p:nvPr/>
        </p:nvPicPr>
        <p:blipFill>
          <a:blip r:embed="rId1"/>
          <a:srcRect l="0" t="0" r="6864" b="9375"/>
          <a:stretch/>
        </p:blipFill>
        <p:spPr>
          <a:xfrm>
            <a:off x="7521480" y="4876920"/>
            <a:ext cx="1622520" cy="1981080"/>
          </a:xfrm>
          <a:prstGeom prst="rect">
            <a:avLst/>
          </a:prstGeom>
          <a:ln w="0">
            <a:noFill/>
          </a:ln>
        </p:spPr>
      </p:pic>
      <p:sp>
        <p:nvSpPr>
          <p:cNvPr id="1559" name="Rounded Rectangular Callout 4"/>
          <p:cNvSpPr/>
          <p:nvPr/>
        </p:nvSpPr>
        <p:spPr>
          <a:xfrm>
            <a:off x="2743200" y="5181480"/>
            <a:ext cx="2819520" cy="1371600"/>
          </a:xfrm>
          <a:prstGeom prst="wedgeRoundRectCallout">
            <a:avLst>
              <a:gd name="adj1" fmla="val 148814"/>
              <a:gd name="adj2" fmla="val -141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ave ga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ention from women to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Picture 7" descr="muscleman02.jpg"/>
          <p:cNvPicPr/>
          <p:nvPr/>
        </p:nvPicPr>
        <p:blipFill>
          <a:blip r:embed="rId1"/>
          <a:stretch/>
        </p:blipFill>
        <p:spPr>
          <a:xfrm>
            <a:off x="3124080" y="4653000"/>
            <a:ext cx="2514600" cy="2205000"/>
          </a:xfrm>
          <a:prstGeom prst="rect">
            <a:avLst/>
          </a:prstGeom>
          <a:ln w="0">
            <a:noFill/>
          </a:ln>
        </p:spPr>
      </p:pic>
      <p:sp>
        <p:nvSpPr>
          <p:cNvPr id="1561" name="Rectangle 1027"/>
          <p:cNvSpPr/>
          <p:nvPr/>
        </p:nvSpPr>
        <p:spPr>
          <a:xfrm>
            <a:off x="990720" y="3809880"/>
            <a:ext cx="7086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had lifte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weights for over an hour before someon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mentione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ip in his sh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076960" cy="1706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ast perfect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indicate a past action that occurred before anoth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ast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ction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3" name="Rounded Rectangular Callout 4"/>
          <p:cNvSpPr/>
          <p:nvPr/>
        </p:nvSpPr>
        <p:spPr>
          <a:xfrm>
            <a:off x="6248520" y="4952880"/>
            <a:ext cx="2209680" cy="1676520"/>
          </a:xfrm>
          <a:prstGeom prst="wedgeRoundRectCallout">
            <a:avLst>
              <a:gd name="adj1" fmla="val -119648"/>
              <a:gd name="adj2" fmla="val -4525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’s a good thing I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ute gl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Rectangle 3"/>
          <p:cNvSpPr/>
          <p:nvPr/>
        </p:nvSpPr>
        <p:spPr>
          <a:xfrm>
            <a:off x="685800" y="2057400"/>
            <a:ext cx="7772400" cy="17524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ast tense:</a:t>
            </a:r>
            <a:r>
              <a:rPr b="0" lang="en-US" sz="26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gular =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ver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e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; irregular forms va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ast perfect tens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ha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past partici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Picture 7" descr="showoff.jpg"/>
          <p:cNvPicPr/>
          <p:nvPr/>
        </p:nvPicPr>
        <p:blipFill>
          <a:blip r:embed="rId1"/>
          <a:stretch/>
        </p:blipFill>
        <p:spPr>
          <a:xfrm>
            <a:off x="3803760" y="4038480"/>
            <a:ext cx="2779560" cy="2819520"/>
          </a:xfrm>
          <a:prstGeom prst="rect">
            <a:avLst/>
          </a:prstGeom>
          <a:ln w="0">
            <a:noFill/>
          </a:ln>
        </p:spPr>
      </p:pic>
      <p:sp>
        <p:nvSpPr>
          <p:cNvPr id="1566" name="Rectangle 1027"/>
          <p:cNvSpPr/>
          <p:nvPr/>
        </p:nvSpPr>
        <p:spPr>
          <a:xfrm>
            <a:off x="914400" y="32004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as show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f when he tore a muscle in his shoul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1337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rogressive tense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indicate an ongoing action that occurs as another action happens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8" name="Rectangle 3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rogressive tense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form of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b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ver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Rounded Rectangular Callout 4"/>
          <p:cNvSpPr/>
          <p:nvPr/>
        </p:nvSpPr>
        <p:spPr>
          <a:xfrm>
            <a:off x="6400800" y="5029200"/>
            <a:ext cx="1447920" cy="914400"/>
          </a:xfrm>
          <a:prstGeom prst="wedgeRoundRectCallout">
            <a:avLst>
              <a:gd name="adj1" fmla="val -116888"/>
              <a:gd name="adj2" fmla="val -6435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Ouc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501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1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5541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en logic permits, you can mix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ast/presen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nses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futur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1" name="Text Box 1038"/>
          <p:cNvSpPr/>
          <p:nvPr/>
        </p:nvSpPr>
        <p:spPr>
          <a:xfrm>
            <a:off x="533520" y="1905120"/>
            <a:ext cx="8076960" cy="2057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ent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 gym today, Jeffrey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ill rewar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mself with a triple bacon cheeseburger for lunch. After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eigh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mself tomorrow,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ill regret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or food choi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2" name="Picture 5" descr="crunches.jpg"/>
          <p:cNvPicPr/>
          <p:nvPr/>
        </p:nvPicPr>
        <p:blipFill>
          <a:blip r:embed="rId1"/>
          <a:stretch/>
        </p:blipFill>
        <p:spPr>
          <a:xfrm>
            <a:off x="4811760" y="4343400"/>
            <a:ext cx="3036960" cy="2514600"/>
          </a:xfrm>
          <a:prstGeom prst="rect">
            <a:avLst/>
          </a:prstGeom>
          <a:ln w="0">
            <a:noFill/>
          </a:ln>
        </p:spPr>
      </p:pic>
      <p:sp>
        <p:nvSpPr>
          <p:cNvPr id="1573" name="Rounded Rectangular Callout 6"/>
          <p:cNvSpPr/>
          <p:nvPr/>
        </p:nvSpPr>
        <p:spPr>
          <a:xfrm>
            <a:off x="609480" y="4419720"/>
            <a:ext cx="3200400" cy="2133360"/>
          </a:xfrm>
          <a:prstGeom prst="wedgeRoundRectCallout">
            <a:avLst>
              <a:gd name="adj1" fmla="val 118657"/>
              <a:gd name="adj2" fmla="val -3056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I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dly, I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will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do more crunches at the gy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</dc:description>
  <cp:keywords>verbs tense shift grammar Grammar Bytes! Robin L. Simmons</cp:keywords>
  <dc:language>en-US</dc:language>
  <cp:lastModifiedBy>Nadia Williams</cp:lastModifiedBy>
  <dcterms:modified xsi:type="dcterms:W3CDTF">2014-03-17T14:54:11Z</dcterms:modified>
  <cp:revision>392</cp:revision>
  <dc:subject/>
  <dc:title>Tense Shif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